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A25-0F30-4CCF-98F0-B42A47F0DC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C7D9-DC9E-4B1C-A5F0-B4D4A393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23F160-36F2-4763-A7C7-6CEF0B92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CC8FBF-DC2E-4B62-BE4E-49BB5BB5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BC95-C8E6-4470-B409-63D60E3B3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496E-8483-4FD5-A59C-0FA0B8E09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E799-BB2B-430D-86A6-EE4AB4D9B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2F51-5607-4200-8746-A3DA5C72C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D6ED-E107-43AE-A551-AC074F56F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E9B5-BDBF-40EE-A230-C9765C6BB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3CF5-547F-4B81-85A3-EC1FD1EEF1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1FC5A-0E98-4B06-BA4E-696FD430F8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2AAE-C753-437C-B0DE-9803620A86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28361-EF2E-48B8-A207-D1ED3B580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30EE-D241-4027-9167-7CFFC7863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B518-26A6-41F8-ADE1-A1E306400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A8EC-FD1F-4FEF-93A2-B3BB42CAEB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E08AA-7EE2-4ED9-B6D4-CD00BB135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8C1C9-E390-4F43-92B4-6596956A4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5338E-7FD8-4D79-B329-CFD25133EE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6183E-A460-43B0-B67D-DDBD0C33EB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1A2D-3318-4B07-9A89-0CFD1ACEE0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F19F-6FBE-4C4F-8149-C1C37112A8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6EF-DA00-47CC-B6A1-9897C2D87E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7907-50FD-47D6-BD8B-927E36ACD5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066-D075-4D3C-8C3B-F53859609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FAC7-5317-4EB2-B790-02B218915F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35B-5AFB-492A-BE0B-852B596064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726-D792-4E81-96EE-056C0F3BE1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1B1-05BD-42DA-8997-C5901565B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5C6-8545-45C0-8EB0-972CD543D8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3264-53E5-4E13-B98B-B73001DBA8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E2C0-B8A8-4858-9A41-113735A31B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5B8-2960-4F82-9CE5-B4D0E0B66B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DDD9-095B-4CFC-A8D3-FB8F1920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B556-9190-4147-A779-BCA28247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4A7B-49CF-4C90-BACD-D07F71D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40B8-F9A5-4430-811E-0CF7479EB5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8E65-F757-4263-8492-E61AEDD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079E-74EB-423A-8E19-CF53148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B696-1496-45C9-BB0E-31D77F7E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5AAE-794C-4A67-95AC-CB0AC60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4052-D40F-4A16-8E0B-69470AF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E28D-BAB3-41CC-9E78-8F9EC32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7C12-BA85-4D26-BEC1-995C7A8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A99C-9B07-49B6-9F9F-90D8A3CA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A28E-B560-40AB-9F29-3B5A653B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F48A-5949-4CF7-8882-7BBAE2DE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CD0C-9EC9-4FB2-ADE9-489DEAEA57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CA3B-EA64-404C-8F5A-478A5D0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A30E-750A-4157-A42F-50C72E3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2830-4B01-4BF0-AABD-5312C34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88CE-0A39-442A-B735-973D2195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DF03-2251-4C37-8C01-A754D635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CBDD-15D2-424F-A7F1-727CCF5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44AC-FF08-4B3E-A692-F74E7E0D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FFF6-7DC1-40FB-998A-C251412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4D8D-07A8-4CB8-9B22-9EDF8D5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AEB0-ECF6-4334-8BEF-05574BD3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0974-9C55-4AB8-8DC8-3917A57A14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4D79-CFE7-4719-A908-C5E3C629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427B-9E47-4358-AE42-C0EF4253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32A4-9BCD-4233-A6D2-E939ABB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C96B-0B81-419E-98A6-A3597945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CB1F-3EAB-45AE-BC53-CFF8C38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415F-493C-4C50-A12C-369866A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BCF1-02D6-471D-9353-26A6F6A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2E90-1C43-4F2C-B805-174D1B3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FC08-2947-43DF-9E95-58B4841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69AF-4E65-497C-88A5-5DFD5A5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FDCA-EB7F-4357-BE1F-F0D0E548CD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DCA5-B9D8-417A-9D37-6EA14FC9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0BCF-F9B2-49C0-9D83-5224C9BB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6F59-4961-4C21-93D4-A176B9F6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633F-F212-45F4-92AA-02C74563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34D6-E314-4B62-8275-E6B0B42CC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2F2C-0DE9-45B2-8DA6-3B838E43860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422-727A-48FF-BE55-81FE0A26F6D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E1AA-A1B5-4D2A-AE16-0A29F89585F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D306-7FDC-4A43-910B-27C471B69A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ADC-7548-4D6A-90BE-9DC2D53DB41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36E5-3C02-4B00-9CD5-3A0A5A9304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s information about all instructions that are decoded but not yet retired/com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BEC1-FD45-4638-B5C2-360E0F0A56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CBE-A943-4145-BFDD-9FD802E861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A55-F9AB-4545-A478-8791240BA05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489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ACC-FDBE-47F5-8C87-690BDF113A4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Straight Arrow Connector 15"/>
          <p:cNvCxnSpPr>
            <a:stCxn id="542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16"/>
          <p:cNvCxnSpPr>
            <a:stCxn id="543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17"/>
          <p:cNvCxnSpPr>
            <a:stCxn id="544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2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9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62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564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39"/>
          <p:cNvCxnSpPr>
            <a:stCxn id="537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6" name="Straight Arrow Connector 41"/>
          <p:cNvCxnSpPr>
            <a:stCxn id="545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7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2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657C-E073-4474-BE0A-5B6B7BD13D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AB07-3726-4AB8-A31A-BED52F751ED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F3E-3A56-47FB-8366-56524F0CD86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2BFF-5AC8-4B9C-B10C-73658D89A00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1612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699-517E-4E94-BECA-41415E43813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E88F-1A34-46A6-A89C-C6C4290A78F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598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603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612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617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618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0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1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42"/>
          <p:cNvCxnSpPr>
            <a:stCxn id="600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6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7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8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9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5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ssler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Alpha 21264 Micro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Micro 1999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cFarling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bining Branch Predi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DEC WRL Technical Report, 199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2E78-F52D-48F2-BE84-0873047BEC3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D95-E687-4F6C-92AC-4776D65FF54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Recall: Checking for and Handling Exceptions in Pipelining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4A1-86A4-4E62-9869-7BBD8F0249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CAA-A577-4BF1-806F-E2FBEFDE453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74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79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88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93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94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42"/>
          <p:cNvCxnSpPr>
            <a:stCxn id="276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Programmer Visible (Architectural) St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456B-8685-4EB1-A208-F7185F1AE0F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143000" y="1506600"/>
            <a:ext cx="2819520" cy="2971800"/>
          </a:xfrm>
          <a:prstGeom prst="rect">
            <a:avLst/>
          </a:prstGeom>
          <a:solidFill>
            <a:srgbClr val="73c7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143000" y="150660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143000" y="1797120"/>
            <a:ext cx="2819520" cy="2887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143000" y="208584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143000" y="237636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143000" y="2666880"/>
            <a:ext cx="2819520" cy="28908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143000" y="418788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76320" y="4419720"/>
            <a:ext cx="4876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array of storag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indexed by a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4800600" y="4419720"/>
            <a:ext cx="3276720" cy="287280"/>
          </a:xfrm>
          <a:prstGeom prst="rect">
            <a:avLst/>
          </a:prstGeom>
          <a:solidFill>
            <a:srgbClr val="ff7e7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memory add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of the current i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3"/>
          <p:cNvGrpSpPr/>
          <p:nvPr/>
        </p:nvGrpSpPr>
        <p:grpSpPr>
          <a:xfrm>
            <a:off x="5334120" y="1447920"/>
            <a:ext cx="4114800" cy="2578320"/>
            <a:chOff x="5334120" y="1447920"/>
            <a:chExt cx="4114800" cy="2578320"/>
          </a:xfrm>
        </p:grpSpPr>
        <p:sp>
          <p:nvSpPr>
            <p:cNvPr id="331" name="Rectangle 14"/>
            <p:cNvSpPr/>
            <p:nvPr/>
          </p:nvSpPr>
          <p:spPr>
            <a:xfrm>
              <a:off x="5791320" y="160020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5943600" y="19810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6172200" y="17524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6400800" y="1447920"/>
              <a:ext cx="1905120" cy="30456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5334120" y="2438280"/>
              <a:ext cx="411480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iven special names in the I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(as opposed to addres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eneral vs. special 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12"/>
          <p:cNvSpPr/>
          <p:nvPr/>
        </p:nvSpPr>
        <p:spPr>
          <a:xfrm>
            <a:off x="1921320" y="564660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structions (and programs) specify how to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values of programmer visibl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an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69DA-8A05-48F8-869B-38350A419D6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Why Do We Want Precise Excep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AF7-C775-44B3-AB4E-9AD1D77E0C2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33"/>
                </a:solidFill>
                <a:latin typeface="Garamond"/>
              </a:rPr>
              <a:t>Recall: Ensuring Precise Exceptions in Pipelining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F160-3279-4B36-914C-847032A222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E3A-C44C-425E-83E3-1E1E67C42DC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9F8-9A25-4C3A-AACD-54F3F6DBD14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75"/>
          <p:cNvCxnSpPr>
            <a:stCxn id="438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77"/>
          <p:cNvCxnSpPr>
            <a:stCxn id="439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Straight Arrow Connector 79"/>
          <p:cNvCxnSpPr>
            <a:stCxn id="440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8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6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10T22:52:45Z</dcterms:modified>
  <cp:revision>453</cp:revision>
  <dc:subject/>
  <dc:title>18-741  Advanced Computer Architecture Lecture 1: Intro and Basics</dc:title>
</cp:coreProperties>
</file>